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77.png" ContentType="image/png"/>
  <Override PartName="/ppt/media/image32.png" ContentType="image/png"/>
  <Override PartName="/ppt/media/image31.wmf" ContentType="image/x-wmf"/>
  <Override PartName="/ppt/media/image74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30.wmf" ContentType="image/x-wmf"/>
  <Override PartName="/ppt/media/image73.png" ContentType="image/png"/>
  <Override PartName="/ppt/media/image27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48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80.wmf" ContentType="image/x-wmf"/>
  <Override PartName="/ppt/media/image14.wmf" ContentType="image/x-wmf"/>
  <Override PartName="/ppt/media/image101.wmf" ContentType="image/x-wmf"/>
  <Override PartName="/ppt/media/image64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1.png" ContentType="image/png"/>
  <Override PartName="/ppt/media/image66.wmf" ContentType="image/x-wmf"/>
  <Override PartName="/ppt/media/image67.wmf" ContentType="image/x-wmf"/>
  <Override PartName="/ppt/media/image70.wmf" ContentType="image/x-wmf"/>
  <Override PartName="/ppt/media/image69.wmf" ContentType="image/x-wmf"/>
  <Override PartName="/ppt/media/image72.wmf" ContentType="image/x-wmf"/>
  <Override PartName="/ppt/media/image88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76.png" ContentType="image/png"/>
  <Override PartName="/ppt/media/image96.wmf" ContentType="image/x-wmf"/>
  <Override PartName="/ppt/media/image75.png" ContentType="image/png"/>
  <Override PartName="/ppt/media/image95.wmf" ContentType="image/x-wmf"/>
  <Override PartName="/ppt/media/image102.wmf" ContentType="image/x-wmf"/>
  <Override PartName="/ppt/media/image92.wmf" ContentType="image/x-wmf"/>
  <Override PartName="/ppt/media/image89.wmf" ContentType="image/x-wmf"/>
  <Override PartName="/ppt/media/image82.wmf" ContentType="image/x-wmf"/>
  <Override PartName="/ppt/media/image79.wmf" ContentType="image/x-wmf"/>
  <Override PartName="/ppt/media/image91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85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7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04E4-31F1-4775-9697-A90C1A4A1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45F-3344-4624-9539-2503CFBC45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7990-C726-4E9A-A1D1-F8068950E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B8C-DB84-4098-80A5-F894888E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F65-D2A1-4E36-B407-654B6582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582-00B3-4102-AB5D-60D61532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367-7E1E-4910-9AB1-0F287585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620-B093-4C93-A6FF-219D118E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677-89F0-4B32-8F90-7C13AF8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F55D-14C0-4220-AE60-8C7E8E3A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7626-7D4D-461E-9288-BDC0353F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352-0A02-41E2-B009-4F9271C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61CD-3E94-4D0C-B02C-8DC9943D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7742-53EB-41FB-A16B-557C9535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569-81AF-4E19-88A2-05041BFB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B951-70CB-4252-A50F-0276A51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1038-C427-454A-9548-BBB0137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57B0-8005-4F65-A3F4-12F6565D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1D89-0B24-488B-9083-4A51F2ED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0A50-AE7F-4588-A0DA-0A0C5D1D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8E03-AA85-4C7D-9FD4-0CAC9FD8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64C1-B592-447B-B0FA-00A5641E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73C6-D2CC-473F-A277-FEBF21B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F242-17FA-4698-859E-47DEAC3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421C-47BC-4975-8762-70163217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FB6-9DEC-41C7-9B4A-BB79130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37A5-D5A7-470F-9712-00C54EA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93D7-ED4A-4FEF-B2F7-3CEE3376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B7D9-6355-49C5-A99F-7ED41946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B2ED-5AF9-4A54-8DCB-2C76DFDD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3621-C21B-45A6-84E2-51A48D5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DFB3-4F63-4185-A648-73E6F58F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8BB2-C397-4D00-9B58-299888AB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B430-4DF8-41BB-8B8E-B9716F20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4269-7C19-45FB-952D-0D2C052B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DF9D-844F-430C-A27E-DD6CB10F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0F6-44D7-4732-9AE9-4873D8B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53B4-0365-41DC-AD14-40D99FCD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FCBD-8ED2-42A7-8331-3BB45212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07A2-3F19-42B2-BF3F-5B930834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EB8F-1850-4596-9BBF-6CD1D5E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39960-6AE7-44EF-B7E4-3583CD9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09F1-D014-4D1E-85DE-710358A5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38F8-8C75-4090-8DCA-3869774E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BC4F5-A9AF-40CB-A462-1533A604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3BD2-0320-448E-B17E-AB759F9C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315D-5BCE-42E5-B668-96FB118C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F78-5D46-4803-9EA2-79C9174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9E49-6C75-4D78-BAEC-0711207C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4EA6-1F31-4E2C-937E-DF54563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6BC1-2E1C-497B-BE44-D7FEC10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9A0D-5742-4B85-B3AB-B4AADAC9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B969-C81F-4171-B2FF-769AFFAD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54B3-3A08-4613-921C-8AF33EB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FB5F-A6BF-4983-927A-E5538C2C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62D6-5BAC-4740-8315-ACBDA85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5D80-67D9-4E3E-AEF5-35DECEF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43CB-5FE4-45D1-BD3C-A48CE5D1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389-315F-4279-88E1-30FEA75C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F9EE-CFC4-4E31-B777-DDCA956E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970-D89A-413C-9817-6C822FE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679-5247-41AA-A59A-68E2DD6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12D-C8DC-4A51-9DE3-6286471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1786-EF01-4488-AEC7-62FAB5572E9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26F-F61C-4326-B797-8D3D375B6E2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41B1-5147-4775-8B8A-2EC42013EA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BE68-307D-481E-B19E-3C09D5FEE33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8154-C17F-4115-9DDF-46136D32377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image" Target="../media/image6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908440" y="500040"/>
            <a:ext cx="681516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566880" y="4776840"/>
            <a:ext cx="54370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Лекция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83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Чтобы вычислить новый интеграл, сделаем замену .                     В этом случа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2238480" y="1125360"/>
                <a:ext cx="4782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Box 7"/>
          <p:cNvSpPr/>
          <p:nvPr/>
        </p:nvSpPr>
        <p:spPr>
          <a:xfrm>
            <a:off x="848520" y="61372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3492360" y="2781360"/>
                <a:ext cx="11448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8" name="Object 5"/>
          <p:cNvGraphicFramePr/>
          <p:nvPr/>
        </p:nvGraphicFramePr>
        <p:xfrm>
          <a:off x="922320" y="3114720"/>
          <a:ext cx="7074000" cy="18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3114720"/>
                    <a:ext cx="707400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9"/>
          <p:cNvSpPr/>
          <p:nvPr/>
        </p:nvSpPr>
        <p:spPr>
          <a:xfrm>
            <a:off x="495720" y="491184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сюда находим искомый интег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2786040" y="5284800"/>
                <a:ext cx="47563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2484360" y="5969160"/>
                <a:ext cx="2989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74720" y="109440"/>
            <a:ext cx="6973920" cy="506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71440" y="76500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Решение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нахождения интеграла                   обозначи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5" name="Объект 5"/>
          <p:cNvGraphicFramePr/>
          <p:nvPr/>
        </p:nvGraphicFramePr>
        <p:xfrm>
          <a:off x="4502160" y="692280"/>
          <a:ext cx="13888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692280"/>
                    <a:ext cx="1388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6"/>
          <p:cNvGraphicFramePr/>
          <p:nvPr/>
        </p:nvGraphicFramePr>
        <p:xfrm>
          <a:off x="252360" y="1700280"/>
          <a:ext cx="2978280" cy="151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2360" y="1700280"/>
                    <a:ext cx="29782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7"/>
          <p:cNvGraphicFramePr/>
          <p:nvPr/>
        </p:nvGraphicFramePr>
        <p:xfrm>
          <a:off x="4479840" y="1773360"/>
          <a:ext cx="4003920" cy="118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79840" y="1773360"/>
                    <a:ext cx="4003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8"/>
          <p:cNvGraphicFramePr/>
          <p:nvPr/>
        </p:nvGraphicFramePr>
        <p:xfrm>
          <a:off x="228600" y="3789360"/>
          <a:ext cx="2544840" cy="161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2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789360"/>
                    <a:ext cx="2544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Объект 9"/>
          <p:cNvGraphicFramePr/>
          <p:nvPr/>
        </p:nvGraphicFramePr>
        <p:xfrm>
          <a:off x="4508640" y="3068640"/>
          <a:ext cx="1238040" cy="87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Объект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8640" y="3068640"/>
                    <a:ext cx="12380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Объект 11"/>
          <p:cNvGraphicFramePr/>
          <p:nvPr/>
        </p:nvGraphicFramePr>
        <p:xfrm>
          <a:off x="4448160" y="4076640"/>
          <a:ext cx="4014720" cy="97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Объект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48160" y="4076640"/>
                    <a:ext cx="4014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Стрелка вправо 12"/>
          <p:cNvSpPr/>
          <p:nvPr/>
        </p:nvSpPr>
        <p:spPr>
          <a:xfrm rot="20245200">
            <a:off x="3330360" y="2506680"/>
            <a:ext cx="1223640" cy="1522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право 13"/>
          <p:cNvSpPr/>
          <p:nvPr/>
        </p:nvSpPr>
        <p:spPr>
          <a:xfrm rot="1041600">
            <a:off x="2835360" y="4309920"/>
            <a:ext cx="1584360" cy="17964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2602080" y="5013360"/>
            <a:ext cx="60325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 нахождения исходного интегр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олучи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Объект 15"/>
          <p:cNvGraphicFramePr/>
          <p:nvPr/>
        </p:nvGraphicFramePr>
        <p:xfrm>
          <a:off x="2846520" y="5859360"/>
          <a:ext cx="4998960" cy="90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1" name="Объект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6520" y="5859360"/>
                    <a:ext cx="49989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Объект 5"/>
          <p:cNvGraphicFramePr/>
          <p:nvPr/>
        </p:nvGraphicFramePr>
        <p:xfrm>
          <a:off x="1692360" y="549360"/>
          <a:ext cx="5599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49360"/>
                    <a:ext cx="559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Объект 6"/>
          <p:cNvGraphicFramePr/>
          <p:nvPr/>
        </p:nvGraphicFramePr>
        <p:xfrm>
          <a:off x="1758960" y="1844640"/>
          <a:ext cx="5535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1844640"/>
                    <a:ext cx="5535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85640" y="3614400"/>
            <a:ext cx="12780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7" name="Объект 8"/>
          <p:cNvGraphicFramePr/>
          <p:nvPr/>
        </p:nvGraphicFramePr>
        <p:xfrm>
          <a:off x="2421000" y="3357720"/>
          <a:ext cx="42498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1000" y="3357720"/>
                    <a:ext cx="4249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85280" y="1600200"/>
            <a:ext cx="747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4"/>
              <p:cNvSpPr txBox="1"/>
              <p:nvPr/>
            </p:nvSpPr>
            <p:spPr>
              <a:xfrm>
                <a:off x="2417760" y="306864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2" name="Object 13"/>
          <p:cNvGraphicFramePr/>
          <p:nvPr/>
        </p:nvGraphicFramePr>
        <p:xfrm>
          <a:off x="2106720" y="3836880"/>
          <a:ext cx="2898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6720" y="3836880"/>
                    <a:ext cx="2898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774800" y="4592520"/>
                <a:ext cx="397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55" name="Объект 3"/>
          <p:cNvGraphicFramePr/>
          <p:nvPr/>
        </p:nvGraphicFramePr>
        <p:xfrm>
          <a:off x="5398920" y="1484280"/>
          <a:ext cx="194004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Объект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8920" y="1484280"/>
                    <a:ext cx="1940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60" y="1268280"/>
            <a:ext cx="883944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нахождения                          применим формулу интегрирования по частям еще раз, пусть тепер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Object 3"/>
          <p:cNvGraphicFramePr/>
          <p:nvPr/>
        </p:nvGraphicFramePr>
        <p:xfrm>
          <a:off x="465120" y="2879640"/>
          <a:ext cx="4211640" cy="11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879640"/>
                    <a:ext cx="421164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Box 9"/>
          <p:cNvSpPr/>
          <p:nvPr/>
        </p:nvSpPr>
        <p:spPr>
          <a:xfrm>
            <a:off x="181080" y="407664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первоначального интеграла получаем следующее   уравнение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1260360" y="404640"/>
                <a:ext cx="5329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396720" y="5099040"/>
                <a:ext cx="48355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Объект 1"/>
              <p:cNvSpPr txBox="1"/>
              <p:nvPr/>
            </p:nvSpPr>
            <p:spPr>
              <a:xfrm>
                <a:off x="3348000" y="1557360"/>
                <a:ext cx="1785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12360" y="2420640"/>
            <a:ext cx="7327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1893960" y="1700280"/>
                <a:ext cx="428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1832040" y="2835360"/>
                <a:ext cx="4732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Box 12"/>
          <p:cNvSpPr/>
          <p:nvPr/>
        </p:nvSpPr>
        <p:spPr>
          <a:xfrm>
            <a:off x="1424520" y="41911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4"/>
          <p:cNvGraphicFramePr/>
          <p:nvPr/>
        </p:nvGraphicFramePr>
        <p:xfrm>
          <a:off x="2989440" y="3843360"/>
          <a:ext cx="30160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3843360"/>
                    <a:ext cx="3016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Заголовок 3" descr=""/>
          <p:cNvPicPr/>
          <p:nvPr/>
        </p:nvPicPr>
        <p:blipFill>
          <a:blip r:embed="rId3"/>
          <a:stretch/>
        </p:blipFill>
        <p:spPr>
          <a:xfrm>
            <a:off x="341280" y="225360"/>
            <a:ext cx="88995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30240" y="311040"/>
            <a:ext cx="8759880" cy="963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200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ой прием нахождения таких интегралов состоит в сведения их к интегралам от рациональных функций (так называемая рационализация интеграла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мотрим интегралы вида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кие интегралы  рационализируются заменой переменной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3" name="Объект 5"/>
          <p:cNvGraphicFramePr/>
          <p:nvPr/>
        </p:nvGraphicFramePr>
        <p:xfrm>
          <a:off x="3348000" y="3860640"/>
          <a:ext cx="166860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86064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Объект 6"/>
          <p:cNvGraphicFramePr/>
          <p:nvPr/>
        </p:nvGraphicFramePr>
        <p:xfrm>
          <a:off x="7164360" y="4508640"/>
          <a:ext cx="8953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4508640"/>
                    <a:ext cx="895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85280" y="188640"/>
            <a:ext cx="8047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483920"/>
            <a:ext cx="8064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ынтегральная функция искомого интеграл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на как функция от радикала степеней 2 и 3. Наименьшее общее кратное чисел  2 и 3 равно 6. Данный интеграл является интегралом тип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                   Тогда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9" name="Объект 5"/>
          <p:cNvGraphicFramePr/>
          <p:nvPr/>
        </p:nvGraphicFramePr>
        <p:xfrm>
          <a:off x="3492360" y="189000"/>
          <a:ext cx="14194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9000"/>
                    <a:ext cx="14194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Объект 7"/>
          <p:cNvGraphicFramePr/>
          <p:nvPr/>
        </p:nvGraphicFramePr>
        <p:xfrm>
          <a:off x="3565440" y="3933720"/>
          <a:ext cx="166860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5440" y="393372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8"/>
          <p:cNvGraphicFramePr/>
          <p:nvPr/>
        </p:nvGraphicFramePr>
        <p:xfrm>
          <a:off x="2268360" y="4653000"/>
          <a:ext cx="9208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653000"/>
                    <a:ext cx="9208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9"/>
          <p:cNvGraphicFramePr/>
          <p:nvPr/>
        </p:nvGraphicFramePr>
        <p:xfrm>
          <a:off x="396720" y="5229360"/>
          <a:ext cx="482760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5229360"/>
                    <a:ext cx="48276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81080" y="333000"/>
            <a:ext cx="842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8" name="Объект 6"/>
          <p:cNvGraphicFramePr/>
          <p:nvPr/>
        </p:nvGraphicFramePr>
        <p:xfrm>
          <a:off x="1165320" y="333360"/>
          <a:ext cx="4173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333360"/>
                    <a:ext cx="4173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Объект 8"/>
          <p:cNvGraphicFramePr/>
          <p:nvPr/>
        </p:nvGraphicFramePr>
        <p:xfrm>
          <a:off x="282600" y="1579680"/>
          <a:ext cx="561672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600" y="1579680"/>
                    <a:ext cx="56167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Объект 9"/>
          <p:cNvGraphicFramePr/>
          <p:nvPr/>
        </p:nvGraphicFramePr>
        <p:xfrm>
          <a:off x="252360" y="3284640"/>
          <a:ext cx="3764160" cy="20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284640"/>
                    <a:ext cx="376416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Стрелка вниз 10"/>
          <p:cNvSpPr/>
          <p:nvPr/>
        </p:nvSpPr>
        <p:spPr>
          <a:xfrm rot="3063000">
            <a:off x="3180600" y="2413800"/>
            <a:ext cx="142560" cy="1116000"/>
          </a:xfrm>
          <a:prstGeom prst="downArrow">
            <a:avLst>
              <a:gd name="adj1" fmla="val 50000"/>
              <a:gd name="adj2" fmla="val 50123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9248600">
            <a:off x="5232240" y="2606400"/>
            <a:ext cx="144720" cy="122400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7"/>
          <p:cNvSpPr/>
          <p:nvPr/>
        </p:nvSpPr>
        <p:spPr>
          <a:xfrm>
            <a:off x="4405320" y="3738600"/>
            <a:ext cx="4032360" cy="140328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Объект 18"/>
          <p:cNvGraphicFramePr/>
          <p:nvPr/>
        </p:nvGraphicFramePr>
        <p:xfrm>
          <a:off x="4533840" y="4022640"/>
          <a:ext cx="37767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Объект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3840" y="4022640"/>
                    <a:ext cx="3776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Стрелка вниз 19"/>
          <p:cNvSpPr/>
          <p:nvPr/>
        </p:nvSpPr>
        <p:spPr>
          <a:xfrm flipH="1" rot="14172000">
            <a:off x="6225120" y="1553760"/>
            <a:ext cx="144360" cy="9349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21"/>
          <p:cNvSpPr/>
          <p:nvPr/>
        </p:nvSpPr>
        <p:spPr>
          <a:xfrm>
            <a:off x="6568920" y="1041480"/>
            <a:ext cx="2087640" cy="91440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Объект 22"/>
          <p:cNvGraphicFramePr/>
          <p:nvPr/>
        </p:nvGraphicFramePr>
        <p:xfrm>
          <a:off x="6902280" y="1101600"/>
          <a:ext cx="142092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Объект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02280" y="1101600"/>
                    <a:ext cx="1420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81080" y="189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4" name="Объект 6"/>
          <p:cNvGraphicFramePr/>
          <p:nvPr/>
        </p:nvGraphicFramePr>
        <p:xfrm>
          <a:off x="1547640" y="333360"/>
          <a:ext cx="45342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4534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Объект 7"/>
          <p:cNvGraphicFramePr/>
          <p:nvPr/>
        </p:nvGraphicFramePr>
        <p:xfrm>
          <a:off x="1765440" y="1484280"/>
          <a:ext cx="37573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1484280"/>
                    <a:ext cx="37573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8"/>
          <p:cNvGraphicFramePr/>
          <p:nvPr/>
        </p:nvGraphicFramePr>
        <p:xfrm>
          <a:off x="611280" y="2708280"/>
          <a:ext cx="628632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708280"/>
                    <a:ext cx="6286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9"/>
          <p:cNvSpPr/>
          <p:nvPr/>
        </p:nvSpPr>
        <p:spPr>
          <a:xfrm>
            <a:off x="548280" y="4076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Объект 10"/>
          <p:cNvGraphicFramePr/>
          <p:nvPr/>
        </p:nvGraphicFramePr>
        <p:xfrm>
          <a:off x="684360" y="4646520"/>
          <a:ext cx="6067440" cy="93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646520"/>
                    <a:ext cx="6067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1"/>
          <p:cNvSpPr/>
          <p:nvPr/>
        </p:nvSpPr>
        <p:spPr>
          <a:xfrm>
            <a:off x="762480" y="595008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Объект 12"/>
          <p:cNvGraphicFramePr/>
          <p:nvPr/>
        </p:nvGraphicFramePr>
        <p:xfrm>
          <a:off x="2836800" y="5808600"/>
          <a:ext cx="451476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5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5808600"/>
                    <a:ext cx="4514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79200" y="469800"/>
            <a:ext cx="8931600" cy="951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5736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4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Теорема.  </a:t>
            </a:r>
            <a:r>
              <a:rPr b="0" i="1" lang="ru-RU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усть функции                и                   дифференцируемы на некотором промежутке               и пусть на                     функция                          имеет первообразную. Тогда на интервале                                           также   имеет   первообразную,   т.е. существует                                                                                      ,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ри этом имеет место следующее равенство: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4284720" y="1628640"/>
                <a:ext cx="942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5869080" y="3141720"/>
                <a:ext cx="698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7524720" y="2276640"/>
                <a:ext cx="793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5940360" y="2708280"/>
                <a:ext cx="116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340000" y="2708280"/>
                <a:ext cx="8780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"/>
              <p:cNvSpPr txBox="1"/>
              <p:nvPr/>
            </p:nvSpPr>
            <p:spPr>
              <a:xfrm>
                <a:off x="6805440" y="3141720"/>
                <a:ext cx="1397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2557440" y="4149720"/>
                <a:ext cx="180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1405080" y="5373720"/>
                <a:ext cx="619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156360" y="1557360"/>
                <a:ext cx="877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81080" y="189000"/>
          <a:ext cx="8424720" cy="4032000"/>
        </p:xfrm>
        <a:graphic>
          <a:graphicData uri="http://schemas.openxmlformats.org/drawingml/2006/table">
            <a:tbl>
              <a:tblPr/>
              <a:tblGrid>
                <a:gridCol w="4211640"/>
                <a:gridCol w="4213080"/>
              </a:tblGrid>
              <a:tr h="171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Объект 6"/>
          <p:cNvGraphicFramePr/>
          <p:nvPr/>
        </p:nvGraphicFramePr>
        <p:xfrm>
          <a:off x="1620720" y="1989000"/>
          <a:ext cx="140364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8900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7"/>
          <p:cNvGraphicFramePr/>
          <p:nvPr/>
        </p:nvGraphicFramePr>
        <p:xfrm>
          <a:off x="1620720" y="2781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2781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8"/>
          <p:cNvGraphicFramePr/>
          <p:nvPr/>
        </p:nvGraphicFramePr>
        <p:xfrm>
          <a:off x="1620720" y="3500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720" y="3500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Объект 9"/>
          <p:cNvGraphicFramePr/>
          <p:nvPr/>
        </p:nvGraphicFramePr>
        <p:xfrm>
          <a:off x="5076720" y="1989000"/>
          <a:ext cx="19116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1989000"/>
                    <a:ext cx="1911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Объект 10"/>
          <p:cNvGraphicFramePr/>
          <p:nvPr/>
        </p:nvGraphicFramePr>
        <p:xfrm>
          <a:off x="5221440" y="2852640"/>
          <a:ext cx="16938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1440" y="2852640"/>
                    <a:ext cx="16938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Объект 11"/>
          <p:cNvGraphicFramePr/>
          <p:nvPr/>
        </p:nvGraphicFramePr>
        <p:xfrm>
          <a:off x="5148360" y="3573360"/>
          <a:ext cx="21636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3573360"/>
                    <a:ext cx="2163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Box 12"/>
          <p:cNvSpPr/>
          <p:nvPr/>
        </p:nvSpPr>
        <p:spPr>
          <a:xfrm>
            <a:off x="482760" y="44370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Объект 13"/>
          <p:cNvGraphicFramePr/>
          <p:nvPr/>
        </p:nvGraphicFramePr>
        <p:xfrm>
          <a:off x="2889360" y="4149720"/>
          <a:ext cx="2030400" cy="104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1" name="Объект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89360" y="4149720"/>
                    <a:ext cx="2030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Box 14"/>
          <p:cNvSpPr/>
          <p:nvPr/>
        </p:nvSpPr>
        <p:spPr>
          <a:xfrm>
            <a:off x="620640" y="51577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Объект 15"/>
          <p:cNvGraphicFramePr/>
          <p:nvPr/>
        </p:nvGraphicFramePr>
        <p:xfrm>
          <a:off x="4356000" y="5156280"/>
          <a:ext cx="15400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Объект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515628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16"/>
          <p:cNvGraphicFramePr/>
          <p:nvPr/>
        </p:nvGraphicFramePr>
        <p:xfrm>
          <a:off x="5918040" y="4908600"/>
          <a:ext cx="2359080" cy="104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6" name="Объект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18040" y="4908600"/>
                    <a:ext cx="2359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Объект 17"/>
          <p:cNvGraphicFramePr/>
          <p:nvPr/>
        </p:nvGraphicFramePr>
        <p:xfrm>
          <a:off x="514440" y="5732640"/>
          <a:ext cx="5297400" cy="973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8" name="Объект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440" y="5732640"/>
                    <a:ext cx="52974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Объект 6"/>
          <p:cNvGraphicFramePr/>
          <p:nvPr/>
        </p:nvGraphicFramePr>
        <p:xfrm>
          <a:off x="539640" y="404640"/>
          <a:ext cx="5856480" cy="22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585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Группа 22"/>
          <p:cNvGrpSpPr/>
          <p:nvPr/>
        </p:nvGrpSpPr>
        <p:grpSpPr>
          <a:xfrm>
            <a:off x="647640" y="2906640"/>
            <a:ext cx="4149720" cy="1692360"/>
            <a:chOff x="647640" y="2906640"/>
            <a:chExt cx="4149720" cy="1692360"/>
          </a:xfrm>
        </p:grpSpPr>
        <p:grpSp>
          <p:nvGrpSpPr>
            <p:cNvPr id="442" name="Группа 7"/>
            <p:cNvGrpSpPr/>
            <p:nvPr/>
          </p:nvGrpSpPr>
          <p:grpSpPr>
            <a:xfrm>
              <a:off x="971280" y="2906640"/>
              <a:ext cx="3826080" cy="1692360"/>
              <a:chOff x="971280" y="2906640"/>
              <a:chExt cx="3826080" cy="1692360"/>
            </a:xfrm>
          </p:grpSpPr>
          <p:sp>
            <p:nvSpPr>
              <p:cNvPr id="443" name="Прямая соединительная линия 8"/>
              <p:cNvSpPr/>
              <p:nvPr/>
            </p:nvSpPr>
            <p:spPr>
              <a:xfrm>
                <a:off x="1042560" y="2906640"/>
                <a:ext cx="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9"/>
              <p:cNvSpPr/>
              <p:nvPr/>
            </p:nvSpPr>
            <p:spPr>
              <a:xfrm>
                <a:off x="971280" y="4599000"/>
                <a:ext cx="3745440" cy="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Прямая соединительная линия 10"/>
              <p:cNvSpPr/>
              <p:nvPr/>
            </p:nvSpPr>
            <p:spPr>
              <a:xfrm>
                <a:off x="1053720" y="2906640"/>
                <a:ext cx="374364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46" name="Объект 11"/>
              <p:cNvGraphicFramePr/>
              <p:nvPr/>
            </p:nvGraphicFramePr>
            <p:xfrm>
              <a:off x="2700360" y="3199680"/>
              <a:ext cx="1045800" cy="55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47" name="Объект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00360" y="3199680"/>
                        <a:ext cx="1045800" cy="55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Объект 12"/>
            <p:cNvGraphicFramePr/>
            <p:nvPr/>
          </p:nvGraphicFramePr>
          <p:xfrm>
            <a:off x="3492720" y="4130640"/>
            <a:ext cx="39672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9" name="Объект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720" y="4130640"/>
                      <a:ext cx="39672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TextBox 13"/>
            <p:cNvSpPr/>
            <p:nvPr/>
          </p:nvSpPr>
          <p:spPr>
            <a:xfrm>
              <a:off x="2203200" y="4077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1" name="Объект 14"/>
            <p:cNvGraphicFramePr/>
            <p:nvPr/>
          </p:nvGraphicFramePr>
          <p:xfrm>
            <a:off x="647640" y="3673800"/>
            <a:ext cx="255600" cy="33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2" name="Объект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640" y="3673800"/>
                      <a:ext cx="2556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3" name="Объект 15"/>
          <p:cNvGraphicFramePr/>
          <p:nvPr/>
        </p:nvGraphicFramePr>
        <p:xfrm>
          <a:off x="5797440" y="2401920"/>
          <a:ext cx="15400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4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7440" y="240192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16"/>
          <p:cNvGraphicFramePr/>
          <p:nvPr/>
        </p:nvGraphicFramePr>
        <p:xfrm>
          <a:off x="5437080" y="3068640"/>
          <a:ext cx="245124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6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7080" y="3068640"/>
                    <a:ext cx="2451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Прямоугольник 17"/>
          <p:cNvSpPr/>
          <p:nvPr/>
        </p:nvSpPr>
        <p:spPr>
          <a:xfrm>
            <a:off x="2531880" y="522936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Объект 19"/>
          <p:cNvGraphicFramePr/>
          <p:nvPr/>
        </p:nvGraphicFramePr>
        <p:xfrm>
          <a:off x="5797440" y="4908600"/>
          <a:ext cx="2487600" cy="105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9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7440" y="4908600"/>
                    <a:ext cx="24876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Прямоугольник 20"/>
          <p:cNvSpPr/>
          <p:nvPr/>
        </p:nvSpPr>
        <p:spPr>
          <a:xfrm>
            <a:off x="618120" y="609300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Объект 21"/>
          <p:cNvGraphicFramePr/>
          <p:nvPr/>
        </p:nvGraphicFramePr>
        <p:xfrm>
          <a:off x="2200320" y="5619600"/>
          <a:ext cx="1812960" cy="105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Объект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0320" y="5619600"/>
                    <a:ext cx="1812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5"/>
          <p:cNvSpPr/>
          <p:nvPr/>
        </p:nvSpPr>
        <p:spPr>
          <a:xfrm>
            <a:off x="338400" y="23184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Объект 6"/>
          <p:cNvGraphicFramePr/>
          <p:nvPr/>
        </p:nvGraphicFramePr>
        <p:xfrm>
          <a:off x="2746440" y="171360"/>
          <a:ext cx="18064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171360"/>
                    <a:ext cx="1806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Прямоугольник 8"/>
          <p:cNvSpPr/>
          <p:nvPr/>
        </p:nvSpPr>
        <p:spPr>
          <a:xfrm>
            <a:off x="661320" y="16714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Объект 9"/>
          <p:cNvGraphicFramePr/>
          <p:nvPr/>
        </p:nvGraphicFramePr>
        <p:xfrm>
          <a:off x="5005440" y="498600"/>
          <a:ext cx="3567240" cy="20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498600"/>
                    <a:ext cx="35672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Группа 10" descr=""/>
          <p:cNvPicPr/>
          <p:nvPr/>
        </p:nvPicPr>
        <p:blipFill>
          <a:blip r:embed="rId5"/>
          <a:stretch/>
        </p:blipFill>
        <p:spPr>
          <a:xfrm>
            <a:off x="182520" y="2341440"/>
            <a:ext cx="46213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Объект 19"/>
          <p:cNvGraphicFramePr/>
          <p:nvPr/>
        </p:nvGraphicFramePr>
        <p:xfrm>
          <a:off x="4032360" y="2822400"/>
          <a:ext cx="4703760" cy="100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Объект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2360" y="2822400"/>
                    <a:ext cx="47037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0"/>
          <p:cNvSpPr/>
          <p:nvPr/>
        </p:nvSpPr>
        <p:spPr>
          <a:xfrm>
            <a:off x="388080" y="46958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Объект 21"/>
          <p:cNvGraphicFramePr/>
          <p:nvPr/>
        </p:nvGraphicFramePr>
        <p:xfrm>
          <a:off x="2482920" y="4437000"/>
          <a:ext cx="574524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Объект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2920" y="4437000"/>
                    <a:ext cx="57452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22"/>
          <p:cNvGraphicFramePr/>
          <p:nvPr/>
        </p:nvGraphicFramePr>
        <p:xfrm>
          <a:off x="396720" y="5661000"/>
          <a:ext cx="2730600" cy="92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6" name="Объект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720" y="5661000"/>
                    <a:ext cx="2730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Стрелка вниз 23"/>
          <p:cNvSpPr/>
          <p:nvPr/>
        </p:nvSpPr>
        <p:spPr>
          <a:xfrm rot="13978200">
            <a:off x="4536000" y="1161000"/>
            <a:ext cx="180720" cy="9000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трелка вниз 24"/>
          <p:cNvSpPr/>
          <p:nvPr/>
        </p:nvSpPr>
        <p:spPr>
          <a:xfrm>
            <a:off x="7273800" y="2421000"/>
            <a:ext cx="142920" cy="3603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6059880" y="60642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Объект 26"/>
          <p:cNvGraphicFramePr/>
          <p:nvPr/>
        </p:nvGraphicFramePr>
        <p:xfrm>
          <a:off x="7164360" y="5834160"/>
          <a:ext cx="133344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1" name="Объект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5834160"/>
                    <a:ext cx="133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80960" y="1395360"/>
            <a:ext cx="8759880" cy="11764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068720" y="3938760"/>
            <a:ext cx="42991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88c5"/>
                </a:solidFill>
                <a:latin typeface="Trebuchet MS"/>
              </a:rPr>
              <a:t>Лекция 1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8" descr=""/>
          <p:cNvPicPr/>
          <p:nvPr/>
        </p:nvPicPr>
        <p:blipFill>
          <a:blip r:embed="rId1"/>
          <a:stretch/>
        </p:blipFill>
        <p:spPr>
          <a:xfrm>
            <a:off x="324000" y="255600"/>
            <a:ext cx="8899200" cy="73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2000" y="114300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0"/>
              <p:cNvSpPr txBox="1"/>
              <p:nvPr/>
            </p:nvSpPr>
            <p:spPr>
              <a:xfrm>
                <a:off x="2700360" y="1989000"/>
                <a:ext cx="13748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1260360" y="299736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8"/>
              <p:cNvSpPr txBox="1"/>
              <p:nvPr/>
            </p:nvSpPr>
            <p:spPr>
              <a:xfrm>
                <a:off x="6661080" y="436572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9"/>
              <p:cNvSpPr txBox="1"/>
              <p:nvPr/>
            </p:nvSpPr>
            <p:spPr>
              <a:xfrm>
                <a:off x="4068720" y="47973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665280" y="219240"/>
            <a:ext cx="7729560" cy="768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065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252360" y="12682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ед интегрированием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т.е представить в виде                                                                        многочлен, а                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836720" y="393372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3060720" y="4581360"/>
                <a:ext cx="100800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24000" y="527040"/>
            <a:ext cx="8208720" cy="67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результате интегрирование рациональной дроби сведется к нахождению интегралов от многочлена и от простейших рациональных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4"/>
          <p:cNvSpPr/>
          <p:nvPr/>
        </p:nvSpPr>
        <p:spPr>
          <a:xfrm>
            <a:off x="56520" y="189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 вычислении интеграла от  правильной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ение будет включать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Объект 5"/>
          <p:cNvGraphicFramePr/>
          <p:nvPr/>
        </p:nvGraphicFramePr>
        <p:xfrm>
          <a:off x="757080" y="1454040"/>
          <a:ext cx="522936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54040"/>
                    <a:ext cx="52293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Объект 6"/>
          <p:cNvGraphicFramePr/>
          <p:nvPr/>
        </p:nvGraphicFramePr>
        <p:xfrm>
          <a:off x="757080" y="2637000"/>
          <a:ext cx="7307280" cy="97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7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637000"/>
                    <a:ext cx="730728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Объект 8"/>
          <p:cNvGraphicFramePr/>
          <p:nvPr/>
        </p:nvGraphicFramePr>
        <p:xfrm>
          <a:off x="444600" y="3903840"/>
          <a:ext cx="8445240" cy="24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3903840"/>
                    <a:ext cx="844524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311040" y="542880"/>
            <a:ext cx="8929800" cy="590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85640" y="1341000"/>
            <a:ext cx="8120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Даны  дифференцируемые функции       и        на некотором промежутке, тогда функция          также дифференцируема на этом промежу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нтегрируя обе части выражения (*), получи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6589800" y="1413000"/>
                <a:ext cx="5331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7524720" y="1413000"/>
                <a:ext cx="4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7021440" y="1871640"/>
                <a:ext cx="819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2629080" y="2492280"/>
                <a:ext cx="304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1"/>
              <p:cNvSpPr txBox="1"/>
              <p:nvPr/>
            </p:nvSpPr>
            <p:spPr>
              <a:xfrm>
                <a:off x="2340000" y="3882960"/>
                <a:ext cx="503064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Объект 4"/>
          <p:cNvGraphicFramePr/>
          <p:nvPr/>
        </p:nvGraphicFramePr>
        <p:xfrm>
          <a:off x="324000" y="44280"/>
          <a:ext cx="80899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280"/>
                    <a:ext cx="8089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Стрелка вниз 5"/>
          <p:cNvSpPr/>
          <p:nvPr/>
        </p:nvSpPr>
        <p:spPr>
          <a:xfrm flipH="1" rot="3710400">
            <a:off x="2983320" y="830880"/>
            <a:ext cx="109440" cy="118008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6"/>
          <p:cNvGraphicFramePr/>
          <p:nvPr/>
        </p:nvGraphicFramePr>
        <p:xfrm>
          <a:off x="181080" y="1773360"/>
          <a:ext cx="257796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1773360"/>
                    <a:ext cx="25779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25"/>
          <p:cNvGraphicFramePr/>
          <p:nvPr/>
        </p:nvGraphicFramePr>
        <p:xfrm>
          <a:off x="3159000" y="1747800"/>
          <a:ext cx="54532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9000" y="1747800"/>
                    <a:ext cx="5453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Стрелка вниз 26"/>
          <p:cNvSpPr/>
          <p:nvPr/>
        </p:nvSpPr>
        <p:spPr>
          <a:xfrm flipV="1" rot="8395800">
            <a:off x="6725160" y="874800"/>
            <a:ext cx="87120" cy="112392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28"/>
          <p:cNvSpPr/>
          <p:nvPr/>
        </p:nvSpPr>
        <p:spPr>
          <a:xfrm>
            <a:off x="2886120" y="1844640"/>
            <a:ext cx="0" cy="223200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30"/>
          <p:cNvSpPr/>
          <p:nvPr/>
        </p:nvSpPr>
        <p:spPr>
          <a:xfrm>
            <a:off x="4176720" y="2997360"/>
            <a:ext cx="3924360" cy="104292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Объект 31"/>
          <p:cNvGraphicFramePr/>
          <p:nvPr/>
        </p:nvGraphicFramePr>
        <p:xfrm>
          <a:off x="4632480" y="3213000"/>
          <a:ext cx="31082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Объект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2480" y="3213000"/>
                    <a:ext cx="31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Объект 32"/>
          <p:cNvGraphicFramePr/>
          <p:nvPr/>
        </p:nvGraphicFramePr>
        <p:xfrm>
          <a:off x="108000" y="4292640"/>
          <a:ext cx="8448480" cy="11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Объект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4292640"/>
                    <a:ext cx="8448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Объект 33"/>
          <p:cNvGraphicFramePr/>
          <p:nvPr/>
        </p:nvGraphicFramePr>
        <p:xfrm>
          <a:off x="36360" y="5516640"/>
          <a:ext cx="507384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Объект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" y="5516640"/>
                    <a:ext cx="50738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Овал 34"/>
          <p:cNvSpPr/>
          <p:nvPr/>
        </p:nvSpPr>
        <p:spPr>
          <a:xfrm>
            <a:off x="5221440" y="5516640"/>
            <a:ext cx="2700360" cy="9000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Объект 35"/>
          <p:cNvGraphicFramePr/>
          <p:nvPr/>
        </p:nvGraphicFramePr>
        <p:xfrm>
          <a:off x="5724360" y="5661000"/>
          <a:ext cx="16909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Объект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5661000"/>
                    <a:ext cx="1690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Стрелка вниз 36"/>
          <p:cNvSpPr/>
          <p:nvPr/>
        </p:nvSpPr>
        <p:spPr>
          <a:xfrm flipH="1" flipV="1" rot="4368000">
            <a:off x="3214440" y="3089520"/>
            <a:ext cx="127080" cy="17636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Объект 1"/>
          <p:cNvGraphicFramePr/>
          <p:nvPr/>
        </p:nvGraphicFramePr>
        <p:xfrm>
          <a:off x="324000" y="482760"/>
          <a:ext cx="808992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82760"/>
                    <a:ext cx="808992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Объект 2"/>
          <p:cNvGraphicFramePr/>
          <p:nvPr/>
        </p:nvGraphicFramePr>
        <p:xfrm>
          <a:off x="382680" y="2517840"/>
          <a:ext cx="77184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680" y="2517840"/>
                    <a:ext cx="77184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1"/>
          <p:cNvSpPr/>
          <p:nvPr/>
        </p:nvSpPr>
        <p:spPr>
          <a:xfrm>
            <a:off x="332280" y="1080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1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"/>
          <p:cNvSpPr/>
          <p:nvPr/>
        </p:nvSpPr>
        <p:spPr>
          <a:xfrm>
            <a:off x="1852200" y="1159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Объект 3"/>
          <p:cNvGraphicFramePr/>
          <p:nvPr/>
        </p:nvGraphicFramePr>
        <p:xfrm>
          <a:off x="368280" y="606600"/>
          <a:ext cx="800100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606600"/>
                    <a:ext cx="800100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Овал 5"/>
          <p:cNvSpPr/>
          <p:nvPr/>
        </p:nvSpPr>
        <p:spPr>
          <a:xfrm>
            <a:off x="3852720" y="1844640"/>
            <a:ext cx="3961080" cy="9144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Объект 6"/>
          <p:cNvGraphicFramePr/>
          <p:nvPr/>
        </p:nvGraphicFramePr>
        <p:xfrm>
          <a:off x="4108320" y="2060640"/>
          <a:ext cx="34894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2060640"/>
                    <a:ext cx="3489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Стрелка вниз 7"/>
          <p:cNvSpPr/>
          <p:nvPr/>
        </p:nvSpPr>
        <p:spPr>
          <a:xfrm flipV="1" rot="8395800">
            <a:off x="5221080" y="1189800"/>
            <a:ext cx="74520" cy="876240"/>
          </a:xfrm>
          <a:prstGeom prst="downArrow">
            <a:avLst>
              <a:gd name="adj1" fmla="val 50000"/>
              <a:gd name="adj2" fmla="val 5008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496800" y="260676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Объект 10"/>
          <p:cNvGraphicFramePr/>
          <p:nvPr/>
        </p:nvGraphicFramePr>
        <p:xfrm>
          <a:off x="328680" y="3213000"/>
          <a:ext cx="7792920" cy="124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80" y="3213000"/>
                    <a:ext cx="77929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1"/>
          <p:cNvGraphicFramePr/>
          <p:nvPr/>
        </p:nvGraphicFramePr>
        <p:xfrm>
          <a:off x="396720" y="4508640"/>
          <a:ext cx="49500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6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508640"/>
                    <a:ext cx="4950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Прямоугольник 12"/>
          <p:cNvSpPr/>
          <p:nvPr/>
        </p:nvSpPr>
        <p:spPr>
          <a:xfrm>
            <a:off x="3206880" y="5516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Объект 13"/>
          <p:cNvGraphicFramePr/>
          <p:nvPr/>
        </p:nvGraphicFramePr>
        <p:xfrm>
          <a:off x="4789440" y="5300640"/>
          <a:ext cx="3111480" cy="87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9440" y="5300640"/>
                    <a:ext cx="31114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85280" y="404280"/>
            <a:ext cx="7975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</a:t>
            </a:r>
            <a:r>
              <a:rPr b="1" lang="en-US" sz="26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ынтегральная функция–правильная рациональная дробь. Представим ее в виде суммы простейших дробей, учитывая, чт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ведем к общему знаменателю сумму дробей, стоящих в правой част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Рисунок 9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2520720" cy="8636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0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316872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1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3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4" name="Object 10"/>
              <p:cNvSpPr txBox="1"/>
              <p:nvPr/>
            </p:nvSpPr>
            <p:spPr>
              <a:xfrm>
                <a:off x="252360" y="40464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12280" y="2111040"/>
            <a:ext cx="4348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равняем числители дробей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-42840" y="2997360"/>
                <a:ext cx="8720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7"/>
              <p:cNvSpPr txBox="1"/>
              <p:nvPr/>
            </p:nvSpPr>
            <p:spPr>
              <a:xfrm>
                <a:off x="585720" y="364500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8"/>
              <p:cNvSpPr txBox="1"/>
              <p:nvPr/>
            </p:nvSpPr>
            <p:spPr>
              <a:xfrm>
                <a:off x="4640400" y="3645000"/>
                <a:ext cx="3195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9"/>
              <p:cNvSpPr txBox="1"/>
              <p:nvPr/>
            </p:nvSpPr>
            <p:spPr>
              <a:xfrm>
                <a:off x="468360" y="465300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0" name="Object 11"/>
          <p:cNvGraphicFramePr/>
          <p:nvPr/>
        </p:nvGraphicFramePr>
        <p:xfrm>
          <a:off x="5041800" y="5064120"/>
          <a:ext cx="14749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1800" y="5064120"/>
                    <a:ext cx="1474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10"/>
          <p:cNvGraphicFramePr/>
          <p:nvPr/>
        </p:nvGraphicFramePr>
        <p:xfrm>
          <a:off x="982800" y="-108000"/>
          <a:ext cx="5879880" cy="33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-108000"/>
                    <a:ext cx="58798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4" name="Рисунок 11" descr=""/>
          <p:cNvPicPr/>
          <p:nvPr/>
        </p:nvPicPr>
        <p:blipFill>
          <a:blip r:embed="rId3"/>
          <a:stretch/>
        </p:blipFill>
        <p:spPr>
          <a:xfrm>
            <a:off x="5005440" y="311472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2" descr=""/>
          <p:cNvPicPr/>
          <p:nvPr/>
        </p:nvPicPr>
        <p:blipFill>
          <a:blip r:embed="rId4"/>
          <a:stretch/>
        </p:blipFill>
        <p:spPr>
          <a:xfrm>
            <a:off x="6950160" y="3033720"/>
            <a:ext cx="1152360" cy="38736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3" descr=""/>
          <p:cNvPicPr/>
          <p:nvPr/>
        </p:nvPicPr>
        <p:blipFill>
          <a:blip r:embed="rId5"/>
          <a:stretch/>
        </p:blipFill>
        <p:spPr>
          <a:xfrm>
            <a:off x="6950160" y="3513240"/>
            <a:ext cx="1079280" cy="4698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4" descr=""/>
          <p:cNvPicPr/>
          <p:nvPr/>
        </p:nvPicPr>
        <p:blipFill>
          <a:blip r:embed="rId6"/>
          <a:stretch/>
        </p:blipFill>
        <p:spPr>
          <a:xfrm>
            <a:off x="757080" y="4508640"/>
            <a:ext cx="7199640" cy="1728720"/>
          </a:xfrm>
          <a:prstGeom prst="rect">
            <a:avLst/>
          </a:prstGeom>
          <a:ln w="0">
            <a:noFill/>
          </a:ln>
        </p:spPr>
      </p:pic>
      <p:sp>
        <p:nvSpPr>
          <p:cNvPr id="568" name="Стрелка вниз 7"/>
          <p:cNvSpPr/>
          <p:nvPr/>
        </p:nvSpPr>
        <p:spPr>
          <a:xfrm flipH="1" rot="14649600">
            <a:off x="3773880" y="2706480"/>
            <a:ext cx="34920" cy="2087640"/>
          </a:xfrm>
          <a:prstGeom prst="downArrow">
            <a:avLst>
              <a:gd name="adj1" fmla="val 50000"/>
              <a:gd name="adj2" fmla="val 5009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8"/>
          <p:cNvSpPr/>
          <p:nvPr/>
        </p:nvSpPr>
        <p:spPr>
          <a:xfrm>
            <a:off x="900000" y="476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9"/>
          <p:cNvSpPr/>
          <p:nvPr/>
        </p:nvSpPr>
        <p:spPr>
          <a:xfrm>
            <a:off x="684360" y="458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41480" y="4122720"/>
                <a:ext cx="55832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4"/>
              <p:cNvSpPr txBox="1"/>
              <p:nvPr/>
            </p:nvSpPr>
            <p:spPr>
              <a:xfrm>
                <a:off x="425520" y="1459080"/>
                <a:ext cx="682308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98240" y="691920"/>
            <a:ext cx="817884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Метод интегрирования по частям применя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 следующих случаях: Подынтегральное выра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меет вид:  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1.  Интеграл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250920" y="2708280"/>
          <a:ext cx="8281800" cy="3529080"/>
        </p:xfrm>
        <a:graphic>
          <a:graphicData uri="http://schemas.openxmlformats.org/drawingml/2006/table">
            <a:tbl>
              <a:tblPr/>
              <a:tblGrid>
                <a:gridCol w="2603520"/>
                <a:gridCol w="1735200"/>
                <a:gridCol w="2214360"/>
                <a:gridCol w="1728720"/>
              </a:tblGrid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68360" y="3429000"/>
                <a:ext cx="218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720" y="4149720"/>
                <a:ext cx="212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8360" y="4869000"/>
                <a:ext cx="2003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468360" y="5516640"/>
                <a:ext cx="2062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3205080" y="2708280"/>
                <a:ext cx="865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2"/>
              <p:cNvSpPr txBox="1"/>
              <p:nvPr/>
            </p:nvSpPr>
            <p:spPr>
              <a:xfrm>
                <a:off x="5148360" y="2781360"/>
                <a:ext cx="936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3"/>
              <p:cNvSpPr txBox="1"/>
              <p:nvPr/>
            </p:nvSpPr>
            <p:spPr>
              <a:xfrm>
                <a:off x="3348000" y="3429000"/>
                <a:ext cx="60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4"/>
              <p:cNvSpPr txBox="1"/>
              <p:nvPr/>
            </p:nvSpPr>
            <p:spPr>
              <a:xfrm>
                <a:off x="5221440" y="3500280"/>
                <a:ext cx="911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8" name="Object 12"/>
          <p:cNvGraphicFramePr/>
          <p:nvPr/>
        </p:nvGraphicFramePr>
        <p:xfrm>
          <a:off x="5221440" y="4149720"/>
          <a:ext cx="10792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4149720"/>
                    <a:ext cx="107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Object 16"/>
              <p:cNvSpPr txBox="1"/>
              <p:nvPr/>
            </p:nvSpPr>
            <p:spPr>
              <a:xfrm>
                <a:off x="5234040" y="4905360"/>
                <a:ext cx="121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5148360" y="5589720"/>
                <a:ext cx="125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Объект 1"/>
              <p:cNvSpPr txBox="1"/>
              <p:nvPr/>
            </p:nvSpPr>
            <p:spPr>
              <a:xfrm>
                <a:off x="3348000" y="4149720"/>
                <a:ext cx="609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Объект 2"/>
              <p:cNvSpPr txBox="1"/>
              <p:nvPr/>
            </p:nvSpPr>
            <p:spPr>
              <a:xfrm>
                <a:off x="3348000" y="4869000"/>
                <a:ext cx="6094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Объект 3"/>
              <p:cNvSpPr txBox="1"/>
              <p:nvPr/>
            </p:nvSpPr>
            <p:spPr>
              <a:xfrm>
                <a:off x="3384720" y="5516640"/>
                <a:ext cx="612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2920" y="475920"/>
            <a:ext cx="88916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2. Интегра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a50021"/>
                </a:solidFill>
                <a:latin typeface="Trebuchet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d490c5"/>
                </a:solidFill>
                <a:latin typeface="Trebuchet MS"/>
              </a:rPr>
              <a:t>-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циклическое интегриров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252360" y="1125360"/>
          <a:ext cx="8209080" cy="2953080"/>
        </p:xfrm>
        <a:graphic>
          <a:graphicData uri="http://schemas.openxmlformats.org/drawingml/2006/table">
            <a:tbl>
              <a:tblPr/>
              <a:tblGrid>
                <a:gridCol w="3205080"/>
                <a:gridCol w="2060640"/>
                <a:gridCol w="1908360"/>
                <a:gridCol w="1035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396720" y="1555920"/>
                <a:ext cx="2202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6"/>
          <p:cNvGraphicFramePr/>
          <p:nvPr/>
        </p:nvGraphicFramePr>
        <p:xfrm>
          <a:off x="324000" y="2205000"/>
          <a:ext cx="27097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709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4213080" y="549360"/>
                <a:ext cx="852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6373800" y="549360"/>
                <a:ext cx="9288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6"/>
              <p:cNvSpPr txBox="1"/>
              <p:nvPr/>
            </p:nvSpPr>
            <p:spPr>
              <a:xfrm>
                <a:off x="252360" y="2852640"/>
                <a:ext cx="2922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7"/>
              <p:cNvSpPr txBox="1"/>
              <p:nvPr/>
            </p:nvSpPr>
            <p:spPr>
              <a:xfrm>
                <a:off x="181080" y="3502080"/>
                <a:ext cx="28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8"/>
              <p:cNvSpPr txBox="1"/>
              <p:nvPr/>
            </p:nvSpPr>
            <p:spPr>
              <a:xfrm>
                <a:off x="6013440" y="2276640"/>
                <a:ext cx="115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9"/>
              <p:cNvSpPr txBox="1"/>
              <p:nvPr/>
            </p:nvSpPr>
            <p:spPr>
              <a:xfrm>
                <a:off x="3924360" y="1623960"/>
                <a:ext cx="1255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1"/>
              <p:cNvSpPr txBox="1"/>
              <p:nvPr/>
            </p:nvSpPr>
            <p:spPr>
              <a:xfrm>
                <a:off x="3852720" y="2282760"/>
                <a:ext cx="1686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2"/>
              <p:cNvSpPr txBox="1"/>
              <p:nvPr/>
            </p:nvSpPr>
            <p:spPr>
              <a:xfrm>
                <a:off x="3852720" y="2997360"/>
                <a:ext cx="16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4"/>
              <p:cNvSpPr txBox="1"/>
              <p:nvPr/>
            </p:nvSpPr>
            <p:spPr>
              <a:xfrm>
                <a:off x="3852720" y="3573360"/>
                <a:ext cx="1400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5"/>
              <p:cNvSpPr txBox="1"/>
              <p:nvPr/>
            </p:nvSpPr>
            <p:spPr>
              <a:xfrm>
                <a:off x="3368520" y="4941720"/>
                <a:ext cx="2698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6"/>
              <p:cNvSpPr txBox="1"/>
              <p:nvPr/>
            </p:nvSpPr>
            <p:spPr>
              <a:xfrm>
                <a:off x="411120" y="4941720"/>
                <a:ext cx="2852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7"/>
              <p:cNvSpPr txBox="1"/>
              <p:nvPr/>
            </p:nvSpPr>
            <p:spPr>
              <a:xfrm>
                <a:off x="6338880" y="4780080"/>
                <a:ext cx="237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7693200" cy="878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85280" y="2060640"/>
            <a:ext cx="754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1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2413080" y="342900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6720" y="4076640"/>
                <a:ext cx="3400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971640" y="4748040"/>
                <a:ext cx="5587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716360" y="1916280"/>
                <a:ext cx="2157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3205080" y="1197000"/>
                <a:ext cx="266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85640" y="126828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797120" y="3284640"/>
          <a:ext cx="517212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3284640"/>
                    <a:ext cx="51721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Box 7"/>
          <p:cNvSpPr/>
          <p:nvPr/>
        </p:nvSpPr>
        <p:spPr>
          <a:xfrm>
            <a:off x="1135800" y="5775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3060720" y="5576760"/>
                <a:ext cx="4132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5" name="Объект 1"/>
          <p:cNvGraphicFramePr/>
          <p:nvPr/>
        </p:nvGraphicFramePr>
        <p:xfrm>
          <a:off x="1900080" y="541440"/>
          <a:ext cx="537876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541440"/>
                    <a:ext cx="53787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85640" y="1628280"/>
            <a:ext cx="79041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2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4"/>
              <p:cNvSpPr txBox="1"/>
              <p:nvPr/>
            </p:nvSpPr>
            <p:spPr>
              <a:xfrm>
                <a:off x="22683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13"/>
          <p:cNvGraphicFramePr/>
          <p:nvPr/>
        </p:nvGraphicFramePr>
        <p:xfrm>
          <a:off x="757080" y="4869000"/>
          <a:ext cx="495144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869000"/>
                    <a:ext cx="49514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5308560" y="184464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TextBox 7"/>
          <p:cNvSpPr/>
          <p:nvPr/>
        </p:nvSpPr>
        <p:spPr>
          <a:xfrm>
            <a:off x="3862440" y="60627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6156360" y="6037200"/>
                <a:ext cx="1649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2989440" y="69228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05" name="Объект 1"/>
          <p:cNvGraphicFramePr/>
          <p:nvPr/>
        </p:nvGraphicFramePr>
        <p:xfrm>
          <a:off x="1685880" y="3933720"/>
          <a:ext cx="57517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5880" y="3933720"/>
                    <a:ext cx="57517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85640" y="1998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3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4"/>
              <p:cNvSpPr txBox="1"/>
              <p:nvPr/>
            </p:nvSpPr>
            <p:spPr>
              <a:xfrm>
                <a:off x="24177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70080" y="3967200"/>
                <a:ext cx="299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177920" y="4416480"/>
                <a:ext cx="5173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11" name="Object 6"/>
          <p:cNvGraphicFramePr/>
          <p:nvPr/>
        </p:nvGraphicFramePr>
        <p:xfrm>
          <a:off x="5940360" y="1844640"/>
          <a:ext cx="16639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844640"/>
                    <a:ext cx="1663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2413080" y="692280"/>
                <a:ext cx="3313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12-05T04:01:09Z</dcterms:modified>
  <cp:revision>229</cp:revision>
  <dc:subject/>
  <dc:title>НЕПРЕРЫВНАЯ СЛУЧАЙНАЯ ВЕЛИЧИНА.</dc:title>
</cp:coreProperties>
</file>